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0A1-3137-49F2-A01E-0901FCDA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18F-540A-407D-B2A8-D9DA84F0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9C5-21E7-46CB-ACD4-616E4B53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66E-9644-41C1-8AE2-F8D0509F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18E91-341A-4ABA-83CA-6E08B2AF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EB4EC-01C2-4C06-A3B4-494B56F4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9031A-8ED2-4FB3-AAF2-C2C92DEF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7B5F5-FF0E-49C9-859E-25959407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F80A1-BD4E-48C5-A077-1FE646CE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CD84E-E28A-419E-BD0F-8912379B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06D46-6636-4FB4-AEC0-8638050F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480-12DE-4949-973A-253FFADD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175F7-D9F9-4DE9-8067-287A05EB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B1EA3-850F-4289-ABFA-33DBAE72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7B0DF-F35D-48DD-9455-88E1AE9E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DC715-BC08-4D20-8878-936446B3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318D2-1F80-4CB6-B394-E24678C9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366-732B-415E-9512-519E76BA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676-99E6-439C-A33B-E5793F28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465-B455-41BA-9592-01021D36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686-E07D-4AA9-9950-91B9D339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97F-EBA9-4547-9DC5-82638000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E49-4375-4BAB-85E1-55E18ECD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BC0-2627-4186-8EAF-A548573E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69ED-AD0B-4214-A594-FE0FD5B8E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154C-C476-4836-8CF7-77C6B19D6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8207280" cy="587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ansporte y distribución</a:t>
            </a:r>
            <a:br>
              <a:rPr sz="4800"/>
            </a:br>
            <a:br>
              <a:rPr sz="36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  la</a:t>
            </a:r>
            <a:br>
              <a:rPr sz="4400"/>
            </a:br>
            <a:br>
              <a:rPr sz="36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nergía eléctrica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ría Victoria Salaza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044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¿Cómo llega la energía eléctrica hasta nuestros hogares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66560"/>
            <a:ext cx="85075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es eléctr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íneas de transpor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lace acometida – vivi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P y CG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CP (Interruptor de Control de Potencia) / CGMP (Cuadro General de Mando y Protecció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781360"/>
            <a:ext cx="0" cy="718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933720"/>
            <a:ext cx="0" cy="6476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5086440"/>
            <a:ext cx="0" cy="6476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entrales eléctrica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84280"/>
            <a:ext cx="36068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vencional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érm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cl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idráu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Alternativa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ó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aremotri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 las o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aremotérm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eotérm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ioma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uncionamient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rbina - altern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ue transfor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mecánic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. eléc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excepción: paneles solares fotovoltaico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557360"/>
            <a:ext cx="0" cy="4751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íneas de transpor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ntral eléc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ubestación - TRF (transformador) de sali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ínea de muy alta tensión (420 kV, 220 kV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ubestación – TR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ínea de alta tensión (132 kV, 45 kV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ubestación – TR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ínea de media tensión (35 kV, 20 kV, 11 kV, 3 kV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ubestación – TR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ínea de baja tensión (1000 V, 500 V, 380 V, 220 V, 127 V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omet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701720"/>
            <a:ext cx="0" cy="214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205000"/>
            <a:ext cx="0" cy="214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782800"/>
            <a:ext cx="0" cy="214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284640"/>
            <a:ext cx="0" cy="214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3789360"/>
            <a:ext cx="0" cy="214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292640"/>
            <a:ext cx="0" cy="214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4869000"/>
            <a:ext cx="0" cy="214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5300640"/>
            <a:ext cx="0" cy="214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5877000"/>
            <a:ext cx="0" cy="288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lace acometida – vivi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omet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ja general de prote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ínea(s) repartidora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entralización de contad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ínea de derivación individ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ivie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997360"/>
            <a:ext cx="0" cy="358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078440"/>
            <a:ext cx="0" cy="358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941720"/>
            <a:ext cx="0" cy="358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877000"/>
            <a:ext cx="0" cy="288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203560"/>
            <a:ext cx="0" cy="288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P y CGM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78200"/>
          <a:ext cx="8218440" cy="3827160"/>
        </p:xfrm>
        <a:graphic>
          <a:graphicData uri="http://schemas.openxmlformats.org/drawingml/2006/table">
            <a:tbl>
              <a:tblPr/>
              <a:tblGrid>
                <a:gridCol w="2386080"/>
                <a:gridCol w="5832360"/>
              </a:tblGrid>
              <a:tr h="382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Interruptor de Control de Potenci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28080">
                      <a:solidFill>
                        <a:srgbClr val="ffcc00"/>
                      </a:solidFill>
                    </a:lnT>
                    <a:lnB w="280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GMP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uadro General de Mando y Protecció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GA            ID            PI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Interruptor      (Interruptor        (Pequeñ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eral           Diferencial)      Interrupto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tomático)                             Automátic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cc00"/>
                      </a:solidFill>
                    </a:lnL>
                    <a:lnR w="28080">
                      <a:solidFill>
                        <a:srgbClr val="ffcc00"/>
                      </a:solidFill>
                    </a:lnR>
                    <a:lnT w="28080">
                      <a:solidFill>
                        <a:srgbClr val="ffcc00"/>
                      </a:solidFill>
                    </a:lnT>
                    <a:lnB w="280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916360" y="2924280"/>
            <a:ext cx="56163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2924280"/>
            <a:ext cx="0" cy="2881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2924280"/>
            <a:ext cx="0" cy="2881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7:20:00Z</dcterms:created>
  <dc:creator>Victoria</dc:creator>
  <dc:description/>
  <dc:language>en-US</dc:language>
  <cp:lastModifiedBy>Victoria</cp:lastModifiedBy>
  <dcterms:modified xsi:type="dcterms:W3CDTF">2009-12-19T20:17:43Z</dcterms:modified>
  <cp:revision>73</cp:revision>
  <dc:subject/>
  <dc:title>Distribución de la energía eléctrica</dc:title>
</cp:coreProperties>
</file>